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13D-6177-4292-86E1-65097D43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019-063E-4027-8207-C72EC34D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54C-C158-4CC1-B123-F1EF6728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645-5B58-42E0-843D-0199A48A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BD06-5680-41EB-83B0-0DCC03B9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BAF2-8DE1-4E90-B51D-1F9F8287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316E-B0EE-4D8C-B4C1-6A0673CB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E66E-0CFD-4B62-8F59-720A84CE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CA97-D837-444E-9FB7-A5E596D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062B-10EB-4967-9D95-9313B666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385D-7942-4554-A4E7-D2A7B55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63F-F356-437C-8D00-8B77C2A1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3AE2-5D0A-44C1-9EA7-7B07DF4D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16A-7D21-4936-8D2D-51AB52C8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791D-A56A-49A4-848D-857AAEF3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FBBE-9D13-4822-BC36-6D32C980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84DB-1747-4151-BB50-AF094C26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C9C-966E-4961-B964-F691D4BF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654-D497-4CBA-B3C3-7FB50164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894-5588-4B77-84DA-7DC676F0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D0B-34FE-46C0-A3F6-B9412E68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F39-B627-4EB6-A526-69DBAF9B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5C2-1F43-408C-A3AA-630ACC0D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E7C-442C-456A-8308-1A945EB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4C1D-D291-45DA-94B9-E53EF7D5A50D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E908-3EB5-4412-9E01-595577314A11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905120"/>
            <a:ext cx="259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3703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49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133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0673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443400" cy="464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505320" y="1523880"/>
            <a:ext cx="2361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pin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cuadr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escul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ural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dibuj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onumen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09680" cy="174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2546640" cy="17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2330640" cy="1962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16002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352680" cy="17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1523880" cy="1109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352680" y="2514600"/>
            <a:ext cx="1600200" cy="1103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838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GENER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348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614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775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0292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292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16673" b="0"/>
          <a:stretch/>
        </p:blipFill>
        <p:spPr>
          <a:xfrm>
            <a:off x="4572000" y="914400"/>
            <a:ext cx="2838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1672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6197400" cy="3319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1828800"/>
            <a:ext cx="1981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544920" cy="403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Qué tipo de arte es?  ¿De qué género es?  ¿Cómo es?  ¿Qué colores ves en la obra?  ¿Qué opinas de esta obra </a:t>
            </a:r>
            <a:r>
              <a:rPr b="0" i="1" lang="en-US" sz="2400" spc="-1" strike="noStrike">
                <a:solidFill>
                  <a:srgbClr val="41280d"/>
                </a:solidFill>
                <a:latin typeface="Verdana"/>
              </a:rPr>
              <a:t>(work)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9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029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262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867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867280" y="106668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598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69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401292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121932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Faculty02</cp:lastModifiedBy>
  <dcterms:modified xsi:type="dcterms:W3CDTF">2009-02-18T14:59:04Z</dcterms:modified>
  <cp:revision>8</cp:revision>
  <dc:subject/>
  <dc:title>PowerPoint Presentation</dc:title>
</cp:coreProperties>
</file>