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98B-D77B-46E3-A2E0-023D8B59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80A-BFF2-4FF1-A08E-AF9729C6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929-C25A-4405-B55B-28ED4D8C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BDC-8B43-4003-8970-30F103E9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E9FB-22DE-437C-992B-769BA3EC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8416-3E43-4A79-8849-8E6CB143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4820-CF27-4022-9476-4228AEA0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C334-F926-4A05-A191-71209189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2BB-78E8-4859-AFA9-13036AA2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F9AC-B47B-4A3E-BE56-C1D5EDF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210F-05B7-40AC-A8E7-8A513B1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B50-8E33-462E-92EF-F743AC2E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9984-FA53-471D-89C8-7920770E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73C1-9749-4A15-B12E-087D3096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44F4-C528-4852-BF7B-1E38A9C3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4580-BDA2-4618-913E-39BFD908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0E2F-3F38-47B0-B58B-F082A224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2AA-5B70-4394-9170-62F17107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D46-C000-4752-8E78-965CDCA0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3DA-3D75-41CE-918C-AD5E18E7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E92-EF11-4171-9BCF-87D72F8F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6E6-140D-468B-8F13-133578A0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0CD-0D19-4600-971F-FBF792C0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29F-C322-4ED6-B127-A393C874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1143000" cy="10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07BB-D1FA-4E0B-8885-14AA97D0FC5A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54000" y="0"/>
            <a:ext cx="9220320" cy="797040"/>
            <a:chOff x="-54000" y="0"/>
            <a:chExt cx="9220320" cy="797040"/>
          </a:xfrm>
        </p:grpSpPr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-54000" y="0"/>
              <a:ext cx="312444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299412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tretch/>
          </p:blipFill>
          <p:spPr>
            <a:xfrm>
              <a:off x="604224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228600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0E63-73C1-44D1-B2D0-B31ADE676107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31680" y="0"/>
            <a:ext cx="9219600" cy="797040"/>
            <a:chOff x="-31680" y="0"/>
            <a:chExt cx="9219600" cy="79704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-3168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01608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606420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9907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7524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280d"/>
                </a:solidFill>
                <a:latin typeface="Tahoma"/>
              </a:rPr>
              <a:t>PARA EMPEZAR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1280d"/>
                </a:solidFill>
                <a:latin typeface="Tahoma"/>
              </a:rPr>
              <a:t>(usen las preguntas para ayudarles)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En parejas, hablen de sus opiniones del arte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e gusta el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ienes un artista favorito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Haces la clase de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Cuál prefieres, pintar o dibujar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Vas al museo con tu familia a veces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1905120"/>
            <a:ext cx="259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37036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949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133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50673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443400" cy="4648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505320" y="1523880"/>
            <a:ext cx="2361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pin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cuadr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escul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ural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dibuj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onumen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209680" cy="1741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86200" y="4800600"/>
            <a:ext cx="16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38080" y="1905120"/>
            <a:ext cx="2546640" cy="1752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8080" y="4038480"/>
            <a:ext cx="2330640" cy="1962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16002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76220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4120" y="4267080"/>
            <a:ext cx="3352680" cy="179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62120" y="4800600"/>
            <a:ext cx="1523880" cy="1109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352680" y="2514600"/>
            <a:ext cx="1600200" cy="1103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410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8380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GENER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348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6386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614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TIP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775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0292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292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16673" b="0"/>
          <a:stretch/>
        </p:blipFill>
        <p:spPr>
          <a:xfrm>
            <a:off x="4572000" y="914400"/>
            <a:ext cx="2838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1672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6197400" cy="3319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1828800"/>
            <a:ext cx="1981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544920" cy="403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Qué tipo de arte es?  ¿De qué género es?  ¿Cómo es?  ¿Qué colores ves en la obra?  ¿Qué opinas de esta obra </a:t>
            </a:r>
            <a:r>
              <a:rPr b="0" i="1" lang="en-US" sz="2400" spc="-1" strike="noStrike">
                <a:solidFill>
                  <a:srgbClr val="41280d"/>
                </a:solidFill>
                <a:latin typeface="Verdana"/>
              </a:rPr>
              <a:t>(work)</a:t>
            </a: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9608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59436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0292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262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8676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867280" y="1066680"/>
            <a:ext cx="243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598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144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693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401292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19920" y="121932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2:33:39Z</dcterms:created>
  <dc:creator>Student</dc:creator>
  <dc:description/>
  <dc:language>en-US</dc:language>
  <cp:lastModifiedBy>Faculty02</cp:lastModifiedBy>
  <dcterms:modified xsi:type="dcterms:W3CDTF">2009-02-18T14:59:04Z</dcterms:modified>
  <cp:revision>8</cp:revision>
  <dc:subject/>
  <dc:title>PowerPoint Presentation</dc:title>
</cp:coreProperties>
</file>