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B61-BABF-4C96-9E8F-AC8109F6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99A-E778-4789-9A36-F51AF9F2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223-A64D-4CBD-B5D1-54BB95B3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241-E2FE-4B7F-AA61-8CBCBF39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B831-4CF3-4024-8ACA-6BFC0CC4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4DB4-0E07-412A-B469-53EB3DB9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3B09-36E5-4A26-9A4A-E886D4BC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4BA4-BE44-4C96-9D47-3078FAD2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F69F-68A5-48EA-BBD2-DD4025E4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F39E-7F4E-4B2E-A4AF-6AA89CBD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F4F2-EF9C-4176-BB7B-32908F17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862-5088-42FD-B7F1-8766019A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A8C6-297F-442D-B8BC-0AE6668D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9A87-E123-43CF-A369-9C32688E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56B8-E6E2-4ABF-818B-4E8003E1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AC75-D58C-49ED-BEDF-D01915B6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D2EE-2F24-40E1-87FE-20A2B95F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844-01D0-4F2C-A9A6-94DF8842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A12-19E2-42BC-890E-29CA466B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307-AF7A-4ECB-BD02-3000FB7B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C5E-CC00-4B18-B4C2-27DB0546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0FB-BEDD-4DDE-B551-2E3FEAC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B0B-D1D4-4FC2-BA7B-7A68517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09A-AA28-4E37-B6C8-925FAE2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6E2-9391-4F3D-B249-05BCD5F39655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FDC-7A6B-411D-B51F-77A0F130EBF8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905120"/>
            <a:ext cx="259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3703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49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133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0673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443400" cy="464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505320" y="1523880"/>
            <a:ext cx="2361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pin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cuadr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escul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ural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dibuj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onumen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09680" cy="174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2546640" cy="17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2330640" cy="1962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16002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352680" cy="17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1523880" cy="1109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352680" y="2514600"/>
            <a:ext cx="1600200" cy="1103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838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GENER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348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614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775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0292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292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16673" b="0"/>
          <a:stretch/>
        </p:blipFill>
        <p:spPr>
          <a:xfrm>
            <a:off x="4572000" y="914400"/>
            <a:ext cx="2838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1672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6197400" cy="3319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1828800"/>
            <a:ext cx="1981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544920" cy="403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Qué tipo de arte es?  ¿De qué género es?  ¿Cómo es?  ¿Qué colores ves en la obra?  ¿Qué opinas de esta obra </a:t>
            </a:r>
            <a:r>
              <a:rPr b="0" i="1" lang="en-US" sz="2400" spc="-1" strike="noStrike">
                <a:solidFill>
                  <a:srgbClr val="41280d"/>
                </a:solidFill>
                <a:latin typeface="Verdana"/>
              </a:rPr>
              <a:t>(work)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9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029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262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867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867280" y="106668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598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69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401292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121932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Faculty02</cp:lastModifiedBy>
  <dcterms:modified xsi:type="dcterms:W3CDTF">2009-02-18T14:59:04Z</dcterms:modified>
  <cp:revision>8</cp:revision>
  <dc:subject/>
  <dc:title>PowerPoint Presentation</dc:title>
</cp:coreProperties>
</file>