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0F5-9F07-47F4-9049-1C13570C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5DE-A39E-455B-876F-017A7B00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8C7-535C-47D2-B2D2-BABE2722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8B4-8796-4CC6-B3BF-EC538D57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214-067C-4557-A4A7-A818FF8D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E45-B404-4C8C-85EC-657326EC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6AB-A69E-42E1-9F1F-430E7CF1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07C-080C-4995-B6FD-94576C67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91F-0BB9-49EC-9AEC-30DC1844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71F-D14A-40BC-8F7B-3896047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587-E773-4FDC-941E-C64CCBFF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437-42C5-4E18-8A00-9478F056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E9AC-4DF5-429E-9FCA-0AB9C6F9B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estiopolis.com/economia/importancia-de-la-identidad-personal-y-social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ommons.wikimedia.org/wiki/File:La_familia_de_Carlos_IV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c090"/>
                </a:solidFill>
                <a:latin typeface="Comic Sans MS"/>
              </a:rPr>
              <a:t>RETR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tipo de arte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éner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De qué género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pc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colores ves en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es ____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hacen las persona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in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opinas de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da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dad pers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ficación 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joann\Pictures\Microsoft Clip Organizer\j044142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53280" y="59436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7720" y="44197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¿Qué es el retrato pictóric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mini familia de Carlos 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685800"/>
            <a:ext cx="4267080" cy="347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joann\Pictures\Microsoft Clip Organizer\j0441429.png"/>
          <p:cNvPicPr/>
          <p:nvPr/>
        </p:nvPicPr>
        <p:blipFill>
          <a:blip r:embed="rId4"/>
          <a:stretch/>
        </p:blipFill>
        <p:spPr>
          <a:xfrm>
            <a:off x="784872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6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ular Callout 9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56272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Velázqu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elipe IV a cab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felipe IV.jpg"/>
          <p:cNvPicPr/>
          <p:nvPr/>
        </p:nvPicPr>
        <p:blipFill>
          <a:blip r:embed="rId1"/>
          <a:stretch/>
        </p:blipFill>
        <p:spPr>
          <a:xfrm>
            <a:off x="1066680" y="1752480"/>
            <a:ext cx="3556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numento a Goy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800px-Zaragoza-Goya.jpg"/>
          <p:cNvPicPr/>
          <p:nvPr/>
        </p:nvPicPr>
        <p:blipFill>
          <a:blip r:embed="rId1"/>
          <a:stretch/>
        </p:blipFill>
        <p:spPr>
          <a:xfrm>
            <a:off x="1143000" y="1752480"/>
            <a:ext cx="296244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715000" y="1066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Federico M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ular Callout 7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635520" y="175248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cul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754680" y="23623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rato de Picas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retrato de picaso.jpg"/>
          <p:cNvPicPr/>
          <p:nvPr/>
        </p:nvPicPr>
        <p:blipFill>
          <a:blip r:embed="rId1"/>
          <a:stretch/>
        </p:blipFill>
        <p:spPr>
          <a:xfrm>
            <a:off x="609480" y="1600200"/>
            <a:ext cx="35053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ular Callout 6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ular Callout 11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571500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Juan G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6715800" y="41148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746040" y="4724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6648480" y="533412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dad / ident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En los retratos, se puede ver una influencia de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dad personal 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ficación social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?  ¿Por qué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457200" y="40384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¿Tienes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 idenificación soci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533520" y="5181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omic Sans MS"/>
              </a:rPr>
              <a:t>Tarea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hacer una descripción de 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_tradnl" sz="3600" spc="-1" strike="noStrike">
                <a:solidFill>
                  <a:srgbClr val="000000"/>
                </a:solidFill>
                <a:latin typeface="Calibri"/>
              </a:rPr>
              <a:t>La familia de Carlos 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55:04Z</dcterms:created>
  <dc:creator>joann</dc:creator>
  <dc:description/>
  <dc:language>en-US</dc:language>
  <cp:lastModifiedBy>joann</cp:lastModifiedBy>
  <dcterms:modified xsi:type="dcterms:W3CDTF">2010-02-24T11:32:13Z</dcterms:modified>
  <cp:revision>59</cp:revision>
  <dc:subject/>
  <dc:title>Slide 1</dc:title>
</cp:coreProperties>
</file>