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FF7-B93E-4C90-92F0-28296EC2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FAD-44B9-4439-885D-6E290C2D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0FE-37D2-4896-82C4-9FAB82F0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CEE-B994-42B4-B1E8-5D57076B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ABF-124D-4FCB-81A4-BD6627B3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8EB-5AC9-487A-9F0E-C64E062E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E23-F4FF-44AD-B6AF-9D65EFF9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9C0-779C-4B76-AF28-2FFFD739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169-2BCB-44C5-A646-04FADB3D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EF8-2076-4664-BCA1-448AAD7C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290-4F9A-4F32-B634-6C9D4AA2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39A-FC82-4C62-B0F8-2230C927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2BBC-8FA5-462C-AF44-73E6809AB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estiopolis.com/economia/importancia-de-la-identidad-personal-y-social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ommons.wikimedia.org/wiki/File:La_familia_de_Carlos_IV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da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dad pers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ficación 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44197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retrato pictóric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mini familia de Carlos 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685800"/>
            <a:ext cx="4267080" cy="347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joann\Pictures\Microsoft Clip Organizer\j0441429.png"/>
          <p:cNvPicPr/>
          <p:nvPr/>
        </p:nvPicPr>
        <p:blipFill>
          <a:blip r:embed="rId4"/>
          <a:stretch/>
        </p:blipFill>
        <p:spPr>
          <a:xfrm>
            <a:off x="78487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6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ular Callout 9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627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Velázqu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elipe IV a cab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felipe IV.jpg"/>
          <p:cNvPicPr/>
          <p:nvPr/>
        </p:nvPicPr>
        <p:blipFill>
          <a:blip r:embed="rId1"/>
          <a:stretch/>
        </p:blipFill>
        <p:spPr>
          <a:xfrm>
            <a:off x="1066680" y="1752480"/>
            <a:ext cx="3556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umento a Goy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800px-Zaragoza-Goya.jpg"/>
          <p:cNvPicPr/>
          <p:nvPr/>
        </p:nvPicPr>
        <p:blipFill>
          <a:blip r:embed="rId1"/>
          <a:stretch/>
        </p:blipFill>
        <p:spPr>
          <a:xfrm>
            <a:off x="1143000" y="1752480"/>
            <a:ext cx="296244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715000" y="106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Federico M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ular Callout 7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635520" y="175248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cu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754680" y="23623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rato de Picas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retrato de picaso.jpg"/>
          <p:cNvPicPr/>
          <p:nvPr/>
        </p:nvPicPr>
        <p:blipFill>
          <a:blip r:embed="rId1"/>
          <a:stretch/>
        </p:blipFill>
        <p:spPr>
          <a:xfrm>
            <a:off x="609480" y="1600200"/>
            <a:ext cx="35053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ular Callout 6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ular Callout 11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7150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Juan G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715800" y="4114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746040" y="4724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648480" y="533412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dad / ident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En los retratos, se puede ver una influencia de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dad personal 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ficación social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  ¿Por qué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457200" y="4038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Tienes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 idenificación soci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533520" y="5181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omic Sans MS"/>
              </a:rPr>
              <a:t>Tarea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hacer una descripción de 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Calibri"/>
              </a:rPr>
              <a:t>La familia de Carlos 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2:13Z</dcterms:modified>
  <cp:revision>59</cp:revision>
  <dc:subject/>
  <dc:title>Slide 1</dc:title>
</cp:coreProperties>
</file>