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CA0-5D39-4E59-BB7A-906D8521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E07-63FF-4D4C-9080-C2DF2C1F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75C-8708-4CD2-8433-34EF9645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5DB-3266-4DC4-8075-A40E3F0E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14D-1115-40BA-9A38-62098DFB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688-6505-4869-AFB5-D21ED02E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633-9D46-4E2F-A705-C79B92FA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AF3-033B-45E5-919F-4B378ACF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BC9-B999-4D98-B907-9BD9B0EC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57A-E4CA-4271-AA93-0B477B4A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ADF-EEFF-4700-B195-44B4FCA9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438-2794-444B-9146-F88AD82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380E-AD52-4B74-9E69-C8E20C436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stiopolis.com/economia/importancia-de-la-identidad-personal-y-social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s.wikimedia.org/wiki/File:La_familia_de_Carlos_IV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da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dad pers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ficación 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419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retrato pictóric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mini familia de Carlos 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685800"/>
            <a:ext cx="4267080" cy="347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joann\Pictures\Microsoft Clip Organizer\j0441429.png"/>
          <p:cNvPicPr/>
          <p:nvPr/>
        </p:nvPicPr>
        <p:blipFill>
          <a:blip r:embed="rId4"/>
          <a:stretch/>
        </p:blipFill>
        <p:spPr>
          <a:xfrm>
            <a:off x="78487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6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ular Callout 9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62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Velázqu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elipe IV a cab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elipe IV.jpg"/>
          <p:cNvPicPr/>
          <p:nvPr/>
        </p:nvPicPr>
        <p:blipFill>
          <a:blip r:embed="rId1"/>
          <a:stretch/>
        </p:blipFill>
        <p:spPr>
          <a:xfrm>
            <a:off x="1066680" y="1752480"/>
            <a:ext cx="3556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umento a Goy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800px-Zaragoza-Goya.jpg"/>
          <p:cNvPicPr/>
          <p:nvPr/>
        </p:nvPicPr>
        <p:blipFill>
          <a:blip r:embed="rId1"/>
          <a:stretch/>
        </p:blipFill>
        <p:spPr>
          <a:xfrm>
            <a:off x="1143000" y="1752480"/>
            <a:ext cx="296244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715000" y="106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Federico M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ular Callout 7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635520" y="175248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u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754680" y="23623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rato de Picas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retrato de picaso.jpg"/>
          <p:cNvPicPr/>
          <p:nvPr/>
        </p:nvPicPr>
        <p:blipFill>
          <a:blip r:embed="rId1"/>
          <a:stretch/>
        </p:blipFill>
        <p:spPr>
          <a:xfrm>
            <a:off x="609480" y="1600200"/>
            <a:ext cx="35053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ular Callout 6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ular Callout 11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7150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Juan G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715800" y="4114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746040" y="472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648480" y="533412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dad / ident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En los retratos, se puede ver una influencia de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dad personal 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ficación social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  ¿Por qué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457200" y="4038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Tienes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 idenificación soci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33520" y="5181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omic Sans MS"/>
              </a:rPr>
              <a:t>Tarea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hacer una descripción de 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Calibri"/>
              </a:rPr>
              <a:t>La familia de Carlos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2:13Z</dcterms:modified>
  <cp:revision>59</cp:revision>
  <dc:subject/>
  <dc:title>Slide 1</dc:title>
</cp:coreProperties>
</file>