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1D7F-6E99-40D7-97FC-33E09E140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DBFD-FB18-4EB8-B4F2-47B07CA7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34D9-3716-41C6-8175-D30AF91D1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9230-59EC-4B81-829E-381D8EE64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5ED2-D685-42FA-BF2F-B8AC237E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AF4A-29E0-49AD-9B3A-45051B0B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0664-9BF4-4663-A701-A2BF5ABA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94C8-ACF7-4A0C-8A99-A3FCB8BF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C97A-97C7-4A63-B159-3FA6C50D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C838-2371-4CF4-A54B-F1A9FF00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8B5E-7E33-4EC9-B958-C974C88F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50D5-A2B4-4C28-84E5-19BABD85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50BA-C84D-4CFE-81EC-66BB96926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914400"/>
            <a:ext cx="739152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Comic Sans MS"/>
              </a:rPr>
              <a:t>¿Cuál es el tema básico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Comic Sans MS"/>
              </a:rPr>
              <a:t>¿Qué representa la obra de arte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81080" y="380880"/>
            <a:ext cx="52815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90920" y="380880"/>
            <a:ext cx="38448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01064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33720" y="380880"/>
            <a:ext cx="4514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5831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07732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1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0" y="533520"/>
            <a:ext cx="45226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09:00:17Z</dcterms:created>
  <dc:creator>Joann Gavigan</dc:creator>
  <dc:description/>
  <dc:language>en-US</dc:language>
  <cp:lastModifiedBy>Edison BOE</cp:lastModifiedBy>
  <dcterms:modified xsi:type="dcterms:W3CDTF">2004-10-05T12:10:22Z</dcterms:modified>
  <cp:revision>2</cp:revision>
  <dc:subject/>
  <dc:title>Slide 1</dc:title>
</cp:coreProperties>
</file>