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8FDB-28DA-4DD9-A35C-E8FB0EC84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777B-A2DB-4309-B9AB-149282127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94FE-D01C-4493-B25D-EB6490A9D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D974-C62D-4FD8-8B20-C7C05D62E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D5DA-4085-45BE-8CB8-2CEEA645C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64BC-2652-41B8-B50F-16F16C9CA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649A-726A-4A8B-9EE6-93293D2E6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4CE9-7C48-44EA-A7A4-8437D0B58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7FC2-3BFC-4451-A915-3A4B4ED86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E94F-F8E4-48A2-B38A-E66F095A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20F0-A3EB-4B32-BE26-BCCFB5F9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DEE4-43F6-467C-89C2-C26AD7B2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974C0-82FF-461B-8DBB-F06D2AF5CA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914400"/>
            <a:ext cx="7391520" cy="46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Comic Sans MS"/>
              </a:rPr>
              <a:t>¿Cuál es el tema básico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Comic Sans MS"/>
              </a:rPr>
              <a:t>¿Qué representa la obra de arte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81080" y="380880"/>
            <a:ext cx="52815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90920" y="380880"/>
            <a:ext cx="38448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7010640" cy="57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133720" y="380880"/>
            <a:ext cx="4514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438280" y="380880"/>
            <a:ext cx="458316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07732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51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6000" y="533520"/>
            <a:ext cx="45226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09:00:17Z</dcterms:created>
  <dc:creator>Joann Gavigan</dc:creator>
  <dc:description/>
  <dc:language>en-US</dc:language>
  <cp:lastModifiedBy>Edison BOE</cp:lastModifiedBy>
  <dcterms:modified xsi:type="dcterms:W3CDTF">2004-10-05T12:10:22Z</dcterms:modified>
  <cp:revision>2</cp:revision>
  <dc:subject/>
  <dc:title>Slide 1</dc:title>
</cp:coreProperties>
</file>