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573-185A-4180-B526-51BAE933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3AA-C192-4C5B-A7F0-B79304E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78D-5B1B-4EA1-A4CB-5B1308E9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A99-C2EC-4CB2-8777-C087D650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FF1-3D29-4FD5-AD67-E2121490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95D-CDF5-45E1-8D43-828FEFCB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F0F-E8D1-4E6E-A73F-095C72F4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AE8-AA3C-42CD-8B85-7858AD7C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B20-0CF3-48FB-ADA3-3F7B8B1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9CE-1DA9-4728-BE2C-590E43F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111-D76C-4C06-8B1C-37FC9D8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B7E-305E-41EF-BC77-70958DF6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5B6D-D9CA-42FA-B40F-188454306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739152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Cuál es el tema básic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Qué representa la obra de ar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281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844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5831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22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00:17Z</dcterms:created>
  <dc:creator>Joann Gavigan</dc:creator>
  <dc:description/>
  <dc:language>en-US</dc:language>
  <cp:lastModifiedBy>Edison BOE</cp:lastModifiedBy>
  <dcterms:modified xsi:type="dcterms:W3CDTF">2004-10-05T12:10:22Z</dcterms:modified>
  <cp:revision>2</cp:revision>
  <dc:subject/>
  <dc:title>Slide 1</dc:title>
</cp:coreProperties>
</file>