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975-209C-4D1F-ABCC-86C595E5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20C-ED23-45A6-9C65-EE46635F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400-293F-4238-AEF3-C67B45D0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EBD-2071-4B86-9D50-89A59A63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4F6-CFA9-4662-B253-16DDA211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D5A-93C7-43A9-BB71-5A485A8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61E-43B8-4243-9891-6BCA9D7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326-14F4-4CB5-9515-0A05948F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097-D700-4D65-975B-5B0FD3FB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A73-38C2-4A14-8B91-B795C3B1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F23-0B40-4D77-8DFF-139816D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576-0E9D-4C15-AC12-47B955F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91B0-FD7B-4F4E-947D-F48E9D59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739152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Cuál es el tema básic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Qué representa la obra de ar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281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844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583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2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00:17Z</dcterms:created>
  <dc:creator>Joann Gavigan</dc:creator>
  <dc:description/>
  <dc:language>en-US</dc:language>
  <cp:lastModifiedBy>Edison BOE</cp:lastModifiedBy>
  <dcterms:modified xsi:type="dcterms:W3CDTF">2004-10-05T12:10:22Z</dcterms:modified>
  <cp:revision>2</cp:revision>
  <dc:subject/>
  <dc:title>Slide 1</dc:title>
</cp:coreProperties>
</file>